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0046-B4F6-433F-9F36-7468568A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E60-CFCB-4C46-8053-B0E8A318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F335-40C4-4C9F-87A3-A530AD38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61D6-1FA8-47B4-B918-D0543CC7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D4E5-166F-4298-AFBA-8156C9ED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E2B-8398-44B7-9677-97517EC1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B8E3-AEED-4FFE-B649-3AD4391C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BDF2-8BEB-4360-8985-017D3783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03A2-CA3B-495A-9A5F-E902CE93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DDE4-74FA-4820-A281-4462813E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DF6A-BA47-4915-93A3-3CCDB68C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DA47-2641-42B7-BD68-0D89C1B5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5181-4389-469D-BF78-23FD0C530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762120"/>
            <a:ext cx="44197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_________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6477120" cy="228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280" y="762120"/>
            <a:ext cx="190512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4440" y="2387520"/>
            <a:ext cx="1956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View photos of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Edit My Pro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rite something about yoursel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429000"/>
            <a:ext cx="18288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Relationship statu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urrent cit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548640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586728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678168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67816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58672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1295280"/>
            <a:ext cx="6858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1295280"/>
            <a:ext cx="6858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1295280"/>
            <a:ext cx="6858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1295280"/>
            <a:ext cx="6858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38680" y="1295280"/>
            <a:ext cx="304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1600200"/>
            <a:ext cx="44197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at’s on your min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2133720"/>
            <a:ext cx="4419720" cy="678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09680" y="762120"/>
            <a:ext cx="4419720" cy="838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_________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6477120" cy="228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2280" y="762120"/>
            <a:ext cx="190512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4440" y="2387520"/>
            <a:ext cx="1956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View photos of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Edit My Pro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rite something about yoursel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1295280"/>
            <a:ext cx="6858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295280"/>
            <a:ext cx="6858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1295280"/>
            <a:ext cx="6858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1295280"/>
            <a:ext cx="6858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1295280"/>
            <a:ext cx="304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1600200"/>
            <a:ext cx="44197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met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sta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048120"/>
            <a:ext cx="320040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iti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es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vourite music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vourite television sh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vourite movi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vourite boo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vourite quota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m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ucation and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e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 School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ploye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i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ber of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3048120"/>
            <a:ext cx="320040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6:40:44Z</dcterms:created>
  <dc:creator>Customer</dc:creator>
  <dc:description/>
  <dc:language>en-US</dc:language>
  <cp:lastModifiedBy>Customer</cp:lastModifiedBy>
  <dcterms:modified xsi:type="dcterms:W3CDTF">2009-12-09T14:22:58Z</dcterms:modified>
  <cp:revision>8</cp:revision>
  <dc:subject/>
  <dc:title>Slide 1</dc:title>
</cp:coreProperties>
</file>